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B57D-080E-4356-A20B-F46D3016A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607D-C285-4725-8F8A-23E11250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B76-0A8F-497F-A10E-5D6BE2E3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6D0-2FDD-4823-8336-9B90FD17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F4B-F225-4BFA-B9F6-483A47F6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520-0F4A-469C-AAA2-E5E5A6A2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EA7-67C9-4F6D-ABF5-3705C974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03F-73E7-485D-BE12-053080CA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284-17F7-4776-AEC7-5E3658EA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4B0-6083-4B66-8B0C-3AC57883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2FB-9F82-4BB1-9452-F76BA0A6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FA0-F4E9-4B48-8494-C9F491B6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E15-BEA1-4858-8195-2181D9C9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F85-13D1-4DF5-A5A6-9E85A6A1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94A7-A14B-4EBE-B5E7-EABF48E39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abriella 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Click to show &quot;Polis Greece&quot; result 8"/>
          <p:cNvPicPr/>
          <p:nvPr/>
        </p:nvPicPr>
        <p:blipFill>
          <a:blip r:embed="rId1"/>
          <a:stretch/>
        </p:blipFill>
        <p:spPr>
          <a:xfrm>
            <a:off x="838080" y="2743200"/>
            <a:ext cx="7467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lick to show &quot;Philosphy Ancient Greece&quot; result 27"/>
          <p:cNvPicPr/>
          <p:nvPr/>
        </p:nvPicPr>
        <p:blipFill>
          <a:blip r:embed="rId1"/>
          <a:stretch/>
        </p:blipFill>
        <p:spPr>
          <a:xfrm>
            <a:off x="2819520" y="22860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lick to show &quot;Ancient Greece Peninsula &quot; result 1"/>
          <p:cNvPicPr/>
          <p:nvPr/>
        </p:nvPicPr>
        <p:blipFill>
          <a:blip r:embed="rId1"/>
          <a:stretch/>
        </p:blipFill>
        <p:spPr>
          <a:xfrm>
            <a:off x="2743200" y="3133800"/>
            <a:ext cx="5181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lick to show &quot;Ancient Greece Peloponnesian War&quot; result 15"/>
          <p:cNvPicPr/>
          <p:nvPr/>
        </p:nvPicPr>
        <p:blipFill>
          <a:blip r:embed="rId1"/>
          <a:stretch/>
        </p:blipFill>
        <p:spPr>
          <a:xfrm>
            <a:off x="2133720" y="2362320"/>
            <a:ext cx="5181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lick to show &quot;Ancient Greece Oligarchy&quot; result 1"/>
          <p:cNvPicPr/>
          <p:nvPr/>
        </p:nvPicPr>
        <p:blipFill>
          <a:blip r:embed="rId1"/>
          <a:stretch/>
        </p:blipFill>
        <p:spPr>
          <a:xfrm>
            <a:off x="3200400" y="2819520"/>
            <a:ext cx="28195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Click to show &quot;Ancient Greece harbor&quot; result 13"/>
          <p:cNvPicPr/>
          <p:nvPr/>
        </p:nvPicPr>
        <p:blipFill>
          <a:blip r:embed="rId1"/>
          <a:stretch/>
        </p:blipFill>
        <p:spPr>
          <a:xfrm>
            <a:off x="1447920" y="2286000"/>
            <a:ext cx="616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lick to show &quot;Acropolis&quot; result 3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lick to show &quot;Agora-Ancient Greece&quot; result 22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lick to show &quot;Assembly-Ancient Greece&quot; result 3"/>
          <p:cNvPicPr/>
          <p:nvPr/>
        </p:nvPicPr>
        <p:blipFill>
          <a:blip r:embed="rId1"/>
          <a:stretch/>
        </p:blipFill>
        <p:spPr>
          <a:xfrm>
            <a:off x="0" y="3139920"/>
            <a:ext cx="91440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lick to show &quot;Citizen-Ancient Greece&quot; result 6"/>
          <p:cNvPicPr/>
          <p:nvPr/>
        </p:nvPicPr>
        <p:blipFill>
          <a:blip r:embed="rId1"/>
          <a:stretch/>
        </p:blipFill>
        <p:spPr>
          <a:xfrm>
            <a:off x="2819520" y="2612880"/>
            <a:ext cx="38098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lick to show &quot;Colony people-Ancient Greece&quot; result 24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lick to show &quot;Democracy-Ancient Greece&quot; result 1"/>
          <p:cNvPicPr/>
          <p:nvPr/>
        </p:nvPicPr>
        <p:blipFill>
          <a:blip r:embed="rId1"/>
          <a:stretch/>
        </p:blipFill>
        <p:spPr>
          <a:xfrm>
            <a:off x="0" y="2732040"/>
            <a:ext cx="914400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Click to show &quot;Jury+Ancient Greece&quot; result 16"/>
          <p:cNvPicPr/>
          <p:nvPr/>
        </p:nvPicPr>
        <p:blipFill>
          <a:blip r:embed="rId1"/>
          <a:stretch/>
        </p:blipFill>
        <p:spPr>
          <a:xfrm>
            <a:off x="533520" y="2687760"/>
            <a:ext cx="822960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Click to show &quot;Monarchy+Ancient Greece&quot; result 24"/>
          <p:cNvPicPr/>
          <p:nvPr/>
        </p:nvPicPr>
        <p:blipFill>
          <a:blip r:embed="rId1"/>
          <a:stretch/>
        </p:blipFill>
        <p:spPr>
          <a:xfrm>
            <a:off x="1143000" y="2362320"/>
            <a:ext cx="66675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03:43Z</dcterms:modified>
  <cp:revision>94</cp:revision>
  <dc:subject/>
  <dc:title>Ancient Greece</dc:title>
</cp:coreProperties>
</file>